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2C5-2541-487A-86C8-16294A8E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DFA-AB7A-47C9-BDD8-3CFB0105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E36-3A23-4D39-AAF0-360CC65E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537-1281-4E24-AC50-75A9DEB0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FF5-EFB2-49F1-98FC-08A7251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2F7-40F2-4D68-9332-0425AD6F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5F5-BDA8-45A0-8DA8-5DBB35E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EB5-D217-4002-8D83-64DEE53D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8CD-86B6-4DCB-9746-CB4271B2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210-BFC0-4E2B-870F-87140D78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2BB-DA5F-47BA-A5B4-09055BB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A00-A593-4FE0-8C07-8AA1342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10F-C25E-46FA-BC5A-2FF80C91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16:50:55Z</dcterms:modified>
  <cp:revision>1</cp:revision>
  <dc:subject/>
  <dc:title>Powerpoint </dc:title>
</cp:coreProperties>
</file>